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0DF3-B23C-46A1-9A68-744D5253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9014-DF3C-44F7-B8FE-FC8223AD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70BE-4E4F-4C57-BABB-9CAB9A34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EEB7-3B5C-4270-A715-8BDE2254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4508-31E3-4AA1-94D2-A824A637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0BDC-5825-475B-8B31-FA2BBC26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5951-3E9F-41F6-967E-A3F11CE8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80AD-9A9D-47DE-9E80-2997630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95FF-41B9-400D-88D7-6CA8963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8102-EECB-43D0-811B-8141C796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C6CE-4C5E-4403-ABBB-AF04A0F9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BDB6-BBDA-401C-9380-7383E87F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6E97-4238-4239-AE23-00591396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4440-84E1-4F4D-9CD4-4D8C6976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CBF7-2B48-4116-B0C4-86F20D13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9FF0-DA0B-43FB-B46F-EB2D648A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17BB-CE71-4156-BE3B-629C3075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77C4-E12A-4BD0-AFC5-C5AC1491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FFDF-0CBA-44C5-A82D-5BAD2E88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3285-BED6-4411-B591-DFC1FB7D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89E3-27DC-442D-A65E-12CB72CA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48D9-2E59-4B53-8580-C6E7621D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C933-5F01-465E-8A17-AD017D12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8CD1-9C95-41CE-ADB0-858E2473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D5F3-1E41-4477-B2FC-3ABC62139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0009-F234-407A-A05B-8AE31D513A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LAN 9 e INFERN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uan Carlos Gutiérrez 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dad Tecnológica de Pereira, abril 27 d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Infern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nferno  es un sistema operativo compacto diseñado para la construcción de sistemas distribuidos y en red en una amplia variedad de dispositivos y plataf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ta basado en Plan 9, por lo que tiene los mismos principios de dise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cursos como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pacio de nombres ( namaspa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rotocolo de comunicación Estándar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ST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abilidad: Sistema oper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nferno  puede ser ejecutado como una aplicación sobre un sistema operativo existente, o como sistema operativo “stand alo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stemas operativos que pueden actuar como anfitr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Windows NT/2000/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Mac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lan 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abilidad: Arquite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nferno  soporta las siguientes arquitec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x86 (386 y super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X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owe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 StrongARM (ARM y Thum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SP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rtabilidad: Plug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nferno  funciona, adicionando un plug-in para intenet explorer 4 o sup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to permite, tener un aspecto homogeneo para el programador, sin que deba preocuparse por el sistema operativo o la arquit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abilidad: 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Las aplicaciones en Inferno, están escritas en LIMBO, un lenguaje de programación concurrente, modular, moderno y seguro, con una sintaxis similar a C y considerablemente mas fácil de entender y depurar que c++ o 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código en LIMBO es compilado en un código independiente de la arquitectura, por “Dis virtual maxhin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Las especificaciones para Dis virtual machine se encuetr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http://www.vitanuova.com:8090/inferno/papers/di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os de dato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Unsigned, 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signed, 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signed, 6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IEEE long float, 6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aciones y control de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)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) stat else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expr)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expr; expr; expr)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tat while (expr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expr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4724280" y="198108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ibrerías: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ys: funciones del sistema como print, open,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raw: line , rec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k: Mostrar gráficos, manejo mouse y te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Bufio: Entrad y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Regex: Para expresiones re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ath: 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720" y="1523880"/>
            <a:ext cx="8710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s un lenguaje de programación utilizado en el sistema operativo distribuido Inf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Ejemplo “Hola mundo”: En el editor de texto</a:t>
            </a:r>
            <a:r>
              <a:rPr b="0" lang="es-CO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Opciones</a:t>
            </a:r>
            <a:r>
              <a:rPr b="0" lang="es-CO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LIM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mplement Ho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nclude "sys.m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sys: Sy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nclude "draw.m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Hola: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nit:   fn(ctxt: ref Draw-&gt;Context, args: list of str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init(ctxt: ref Draw-&gt;Context, args: list of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sys = load Sys Sys-&gt;PA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sys-&gt;print(“Hola mundo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bo: Compilador desde cons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mu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; limbo –g eje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;ejem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Hola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bo: Ejecutar desde w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mu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wm/w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brir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% ejem3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962440" y="6229440"/>
            <a:ext cx="6181200" cy="628560"/>
            <a:chOff x="2962440" y="6229440"/>
            <a:chExt cx="6181200" cy="62856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2962440" y="6229440"/>
              <a:ext cx="258084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5543280" y="6229440"/>
              <a:ext cx="360036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lan 9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4320" y="3900600"/>
            <a:ext cx="73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es.wikipedia.org/wiki/Lenguaje_de_programaci%C3%B3n_Li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8920" y="267192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plan9.bell-labs.com/plan9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60" y="328608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vitanuova.co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4960" y="2057400"/>
            <a:ext cx="70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ttp://juancarunbasic.wikispaces.com/Plan9_Sistema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lan 9 de Bell Labs es un sistema de investigación desarrollado en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Bell Labs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a partir de finales del decenio de 1980. Sus diseñadores originales y autores de Ken Thompson, Rob Pike, Dave Presotto, y Phil Winterbottom. Fueron acompañados por muchos otros continuado el desarrollo en el decenio de 1990 hasta el pres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 un sistema operativo para sistemas distribuido donde una colección de computadores separados físicamente están conectados entre sí por una red de comunicaciones. Cada máquina posee sus componentes de hardware y software que el usuario percibe como un solo sistema (no necesita saber qué cosas están en qué máquinas). El usuario accede a los recursos remotos (RPC) de la misma manera en que accede a recursos loc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diseño en Pla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Recursos como archivos: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todos los recursos del sistema se representan como archivos en el sistema de archivos jerárqu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Espacios de nombres (namespaces: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conjunto de nombres en el cual todos los nombres son únicos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la vista de la red por parte de la aplicación es un espacio de nombres simple y coherente que aparece como un sistema de archivos jerárquico pero que puede representar recursos físicamente separados (locales o remo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Protocolo de comunicaciones estándar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: se usa un protocolo estándar, llamado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9P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, para acceder a todos los recursos, ya sean locales o remo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400" y="5791320"/>
            <a:ext cx="776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j. Namespace: Juan es el ID 123 en la UTP, Maria es ID 123 en la Católi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TP y La Católica son namespaces diferentes que permiten que Juan y Ma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 identifiquen con el ID 12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l mismo identificador puede independientemente ser definido en múltiples name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ma de archivo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om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lan 9 extendió el sistema de archivos a nombres, esto es,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una ruta única a un objeto ya sea un archivo, pantalla, usuario ó computadora.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Todos se manejaron utilizando los estándares UNIX existentes, pero extendidos de forma que cualquier objeto pudiera ser nombrado y accedido, un concepto similar al más conocido sistema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utilizado en la World Wide W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En UNIX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, dispositivos como impresoras habían sido representados por nombres utilizando "conversores software" en el directorio /dev, pero éstos solamente manejaban dispositivos del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hardware loc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y no dispositivos remo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Bajo Plan 9 las impresoras fueron virtualizadas como archivos, que podían ser accedidos a través de la red desde cualquier estación de trabajo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0" y="5975280"/>
            <a:ext cx="910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URI es una cadena corta de caracteres que identifica inequívocamente un recurso (servicio, página, documento, dirección de correo electrónico, enciclopedia, etc.). Normalmente estos recursos son accesibles en una red o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mbres diferentes al mismo objeto r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Otra innovación de Plan 9 fue la habilidad de que los usuarios tuvieran nombres diferentes para los mismos objetos reales. Cada usuario podía crear un entorno personalizado colectando objetos varios en su espacio de nomb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IX tiene un concepto similar en el que los usuarios ganan "privilegios" siendo copiados desde otro usuario, pero Plan 9 extiende esto a todos los objetos. Los usuarios pueden fácilmente crear copias de sí mismos, modificarlas y después eliminarlas sin afectar los recursos de los que fueron cre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orios Un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lan 9 también introdujo el concepto de los directorios unión,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directorios que combinan y agrupan recursos a través de distintos medios y redes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or ejemplo, el directorio /bin (programas) de otro computador puede ser vinculado al del propio computador, y entonces este directorio contendrá las aplicaciones locales y las aplicaciones remotas (del otro computador), a las que el usuario puede acceder de forma transpar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o interesante es que los usuarios pueden utilizar el sistema de directorios unión para anexar aplicaciones remotas en su espacio de nombres, interactuando con ellas como si fueran locales, y haciendo el procesamiento a través de una red algo muy senc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para Pla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ython 2.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Graphv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erl 5.8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The PQ databas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X and LaT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CIÓN PLA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http://plan9.bell-labs.com/plan9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226000" y="838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09-04-29T17:48:1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